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3CB-001D-4300-BE49-2BD18AD4F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DF8-86DB-4994-8190-7AA24813A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20B-BC08-4994-B61A-270EFF6F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570-63C6-4056-8A35-4656E243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2A1-0BD8-4E87-9DE8-440E1D46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7E1-1702-4876-A1F2-7FFA7DF3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09680" y="304560"/>
            <a:ext cx="647712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5F7-D7B4-4507-8D2C-4A69FF8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0BC-0056-43CE-A215-45101C8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09680" y="304560"/>
            <a:ext cx="647712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3CB-10E0-4BB4-8D14-9D935C7B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09680" y="304560"/>
            <a:ext cx="647712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C53-A47A-412E-B4B0-F105CE3B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09680" y="304560"/>
            <a:ext cx="647712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7DC-C6B1-42C4-8063-75A3503B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3F4-82E4-4359-8C6F-80E64B12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D91-AC9C-437B-B71D-CD5AB5E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693-A217-49B1-81F1-68A8D3C9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38AE-B018-4594-95C6-96641370D17B}" type="slidenum">
              <a:rPr b="0" lang="en-US" sz="1200" spc="-1" strike="noStrike">
                <a:solidFill>
                  <a:srgbClr val="898989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286000" y="0"/>
            <a:ext cx="685800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9480"/>
            <a:ext cx="495288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952880" y="6729480"/>
            <a:ext cx="1600200" cy="136440"/>
          </a:xfrm>
          <a:prstGeom prst="rect">
            <a:avLst/>
          </a:prstGeom>
          <a:solidFill>
            <a:srgbClr val="f1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2286000" y="0"/>
            <a:ext cx="685800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729480"/>
            <a:ext cx="495288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952880" y="6729480"/>
            <a:ext cx="1600200" cy="136440"/>
          </a:xfrm>
          <a:prstGeom prst="rect">
            <a:avLst/>
          </a:prstGeom>
          <a:solidFill>
            <a:srgbClr val="f1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2286000" y="0"/>
            <a:ext cx="685800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729480"/>
            <a:ext cx="4952880" cy="1364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952880" y="6729480"/>
            <a:ext cx="1600200" cy="136440"/>
          </a:xfrm>
          <a:prstGeom prst="rect">
            <a:avLst/>
          </a:prstGeom>
          <a:solidFill>
            <a:srgbClr val="f1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92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2286000" y="0"/>
            <a:ext cx="6858000" cy="1364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0" y="6729480"/>
            <a:ext cx="4952880" cy="13644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952880" y="6729480"/>
            <a:ext cx="1600200" cy="136440"/>
          </a:xfrm>
          <a:prstGeom prst="rect">
            <a:avLst/>
          </a:prstGeom>
          <a:solidFill>
            <a:srgbClr val="f17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2438280" y="0"/>
            <a:ext cx="67057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0" y="6638760"/>
            <a:ext cx="67057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304560"/>
            <a:ext cx="6477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Franklin Gothic Heavy"/>
              </a:rPr>
              <a:t>SENSURON</a:t>
            </a:r>
            <a:endParaRPr b="0" lang="en-US" sz="3200" spc="-1" strike="noStrike">
              <a:solidFill>
                <a:srgbClr val="404040"/>
              </a:solidFill>
              <a:latin typeface="Franklin Gothic Medium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1430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Book"/>
              </a:rPr>
              <a:t>Combination of </a:t>
            </a:r>
            <a:r>
              <a:rPr b="0" i="1" lang="en-US" sz="2300" spc="-1" strike="noStrike">
                <a:solidFill>
                  <a:srgbClr val="000000"/>
                </a:solidFill>
                <a:latin typeface="Franklin Gothic Book"/>
              </a:rPr>
              <a:t>sensor</a:t>
            </a:r>
            <a:r>
              <a:rPr b="0" lang="en-US" sz="2300" spc="-1" strike="noStrike">
                <a:solidFill>
                  <a:srgbClr val="000000"/>
                </a:solidFill>
                <a:latin typeface="Franklin Gothic Book"/>
              </a:rPr>
              <a:t> and </a:t>
            </a:r>
            <a:r>
              <a:rPr b="0" i="1" lang="en-US" sz="2300" spc="-1" strike="noStrike">
                <a:solidFill>
                  <a:srgbClr val="000000"/>
                </a:solidFill>
                <a:latin typeface="Franklin Gothic Book"/>
              </a:rPr>
              <a:t>neuron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Book"/>
              </a:rPr>
              <a:t>A neuron is a nerve cell that sends and receives signals long distances throughout the body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Book"/>
              </a:rPr>
              <a:t>Much like a neuron, ubiquitous Optical Sensing Systems perform and analyze multiple functions precisely and simultaneously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Franklin Gothic Book"/>
              </a:rPr>
              <a:t>Thousands of sensors allow the technology to test and measure the form and function of materials and structures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ranklin Gothic Book"/>
              </a:rPr>
              <a:t>Alternative spellings: Senseuron, Sensoron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79" name="Picture 2" descr="http://www.faqs.org/photo-dict/photofiles/list/667/1077neuron.jpg"/>
          <p:cNvPicPr/>
          <p:nvPr/>
        </p:nvPicPr>
        <p:blipFill>
          <a:blip r:embed="rId1"/>
          <a:stretch/>
        </p:blipFill>
        <p:spPr>
          <a:xfrm>
            <a:off x="5699160" y="1298520"/>
            <a:ext cx="28782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8:08:45Z</dcterms:created>
  <dc:creator>Scott Campbell</dc:creator>
  <dc:description/>
  <cp:keywords>compressed</cp:keywords>
  <dc:language>en-US</dc:language>
  <cp:lastModifiedBy>Microsoft account</cp:lastModifiedBy>
  <cp:lastPrinted>2014-05-08T21:00:43Z</cp:lastPrinted>
  <dcterms:modified xsi:type="dcterms:W3CDTF">2014-06-09T22:48:14Z</dcterms:modified>
  <cp:revision>110</cp:revision>
  <dc:subject/>
  <dc:title>4FOS name candidates</dc:title>
</cp:coreProperties>
</file>